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685800" y="628200"/>
            <a:ext cx="77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50880" y="4186440"/>
            <a:ext cx="78357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9526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5088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4186440"/>
            <a:ext cx="382356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001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9720" y="19526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5088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001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9720" y="4186440"/>
            <a:ext cx="2522880" cy="20397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6720" y="180720"/>
            <a:ext cx="7278480" cy="17240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835760" cy="17240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50880" y="1952640"/>
            <a:ext cx="38289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rmAutofit fontScale="95000"/>
          </a:bodyPr>
          <a:p>
            <a:pPr marL="379800" indent="-2804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54760" indent="-28188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2972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912240" indent="-28188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835760" cy="17240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marL="399960" indent="-2952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84280" indent="-297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68240" indent="-296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960480" indent="-29700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144440" indent="-296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marL="1144440" indent="-296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marL="1144440" indent="-296640">
              <a:spcBef>
                <a:spcPts val="22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50880" y="180720"/>
            <a:ext cx="7835760" cy="17240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979520" y="1952640"/>
            <a:ext cx="3506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rmAutofit fontScale="94000"/>
          </a:bodyPr>
          <a:p>
            <a:pPr marL="375840" indent="-27720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49000" indent="-27900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21800" indent="-2786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902520" indent="-27900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075680" indent="-2786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marL="1075680" indent="-2786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marL="1075680" indent="-2786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50880" y="1952640"/>
            <a:ext cx="38289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rmAutofit fontScale="95000"/>
          </a:bodyPr>
          <a:p>
            <a:pPr marL="379800" indent="-28044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554760" indent="-28188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72972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912240" indent="-28188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5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6" marL="1087200" indent="-281520">
              <a:spcBef>
                <a:spcPts val="29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650880" y="180720"/>
            <a:ext cx="7835760" cy="17240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body"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marL="439560" indent="-334800">
              <a:spcBef>
                <a:spcPts val="2200"/>
              </a:spcBef>
              <a:buSzPct val="103937"/>
              <a:buBlip>
                <a:blip r:embed="rId3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1" marL="623880" indent="-336600">
              <a:spcBef>
                <a:spcPts val="2200"/>
              </a:spcBef>
              <a:buSzPct val="103937"/>
              <a:buBlip>
                <a:blip r:embed="rId4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2" marL="808200" indent="-336600">
              <a:spcBef>
                <a:spcPts val="2200"/>
              </a:spcBef>
              <a:buSzPct val="103937"/>
              <a:buBlip>
                <a:blip r:embed="rId5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3" marL="1000080" indent="-336600">
              <a:spcBef>
                <a:spcPts val="2200"/>
              </a:spcBef>
              <a:buSzPct val="103937"/>
              <a:buBlip>
                <a:blip r:embed="rId6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4" marL="1184400" indent="-336600">
              <a:spcBef>
                <a:spcPts val="2200"/>
              </a:spcBef>
              <a:buSzPct val="103937"/>
              <a:buBlip>
                <a:blip r:embed="rId7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5" marL="1184400" indent="-336600">
              <a:spcBef>
                <a:spcPts val="2200"/>
              </a:spcBef>
              <a:buSzPct val="103937"/>
              <a:buBlip>
                <a:blip r:embed="rId8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6" marL="1184400" indent="-336600">
              <a:spcBef>
                <a:spcPts val="2200"/>
              </a:spcBef>
              <a:buSzPct val="103937"/>
              <a:buBlip>
                <a:blip r:embed="rId9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3800" spc="-1" strike="noStrike">
                <a:solidFill>
                  <a:srgbClr val="00408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2286000"/>
            <a:ext cx="6329520" cy="1028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3800" spc="-1" strike="noStrike">
                <a:solidFill>
                  <a:srgbClr val="004080"/>
                </a:solidFill>
                <a:latin typeface="Calibri"/>
              </a:rPr>
              <a:t>Click to edit the title text format</a:t>
            </a: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4760" indent="0">
              <a:spcBef>
                <a:spcPts val="2200"/>
              </a:spcBef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1" marL="623880" indent="-336600">
              <a:spcBef>
                <a:spcPts val="2200"/>
              </a:spcBef>
              <a:buSzPct val="103937"/>
              <a:buBlip>
                <a:blip r:embed="rId3"/>
              </a:buBlip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2" marL="808200" indent="-336600">
              <a:spcBef>
                <a:spcPts val="2200"/>
              </a:spcBef>
              <a:buSzPct val="103937"/>
              <a:buBlip>
                <a:blip r:embed="rId4"/>
              </a:buBlip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3" marL="1000080" indent="-336600">
              <a:spcBef>
                <a:spcPts val="2200"/>
              </a:spcBef>
              <a:buSzPct val="103937"/>
              <a:buBlip>
                <a:blip r:embed="rId5"/>
              </a:buBlip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4" marL="1184400" indent="-336600">
              <a:spcBef>
                <a:spcPts val="2200"/>
              </a:spcBef>
              <a:buSzPct val="103937"/>
              <a:buBlip>
                <a:blip r:embed="rId6"/>
              </a:buBlip>
              <a:tabLst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5" marL="1184400" indent="-336600">
              <a:spcBef>
                <a:spcPts val="451"/>
              </a:spcBef>
              <a:buSzPct val="103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6" marL="1184400" indent="-336600">
              <a:spcBef>
                <a:spcPts val="451"/>
              </a:spcBef>
              <a:buSzPct val="1039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880" y="2085480"/>
            <a:ext cx="7835760" cy="26766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50880" y="885960"/>
            <a:ext cx="7835760" cy="507672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rmAutofit/>
          </a:bodyPr>
          <a:p>
            <a:pPr marL="439560" indent="-3348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2" marL="80820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3" marL="100008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4" marL="118440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5" marL="118440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  <a:p>
            <a:pPr lvl="6" marL="1184400" indent="-336600">
              <a:spcBef>
                <a:spcPts val="3087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880" y="5181480"/>
            <a:ext cx="7835760" cy="11908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50880" y="5181480"/>
            <a:ext cx="7835760" cy="119088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0520" y="1076040"/>
            <a:ext cx="4707000" cy="23144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b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50520" y="3447720"/>
            <a:ext cx="4707000" cy="23144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 algn="ct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520" y="1076040"/>
            <a:ext cx="4707000" cy="23144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b">
            <a:noAutofit/>
          </a:bodyPr>
          <a:p>
            <a:pPr indent="0" algn="ctr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50520" y="3447720"/>
            <a:ext cx="4707000" cy="231444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indent="0" algn="ctr"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600200" y="2286000"/>
            <a:ext cx="6329520" cy="1028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t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3800" spc="-1" strike="noStrike">
                <a:solidFill>
                  <a:srgbClr val="004080"/>
                </a:solidFill>
                <a:latin typeface="Calibri"/>
              </a:rPr>
              <a:t>Presentation title…</a:t>
            </a: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600200" y="3398400"/>
            <a:ext cx="6300720" cy="84636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Autofit/>
          </a:bodyPr>
          <a:p>
            <a:pPr marL="104760" indent="0">
              <a:spcBef>
                <a:spcPts val="2200"/>
              </a:spcBef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Subhead …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2820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28800" bIns="28800" anchor="ctr">
            <a:noAutofit/>
          </a:bodyPr>
          <a:p>
            <a:pPr indent="0">
              <a:buNone/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3800" spc="-1" strike="noStrike">
                <a:solidFill>
                  <a:srgbClr val="004080"/>
                </a:solidFill>
                <a:latin typeface="Calibri"/>
              </a:rPr>
              <a:t>Subject title…</a:t>
            </a:r>
            <a:endParaRPr b="0" lang="en-US" sz="3800" spc="-1" strike="noStrike">
              <a:solidFill>
                <a:srgbClr val="00408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50880" y="1952640"/>
            <a:ext cx="7835760" cy="42768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32040" bIns="32040" anchor="t">
            <a:normAutofit/>
          </a:bodyPr>
          <a:p>
            <a:pPr marL="439560" indent="-334800">
              <a:spcBef>
                <a:spcPts val="2200"/>
              </a:spcBef>
              <a:buSzPct val="103937"/>
              <a:buBlip>
                <a:blip r:embed="rId2"/>
              </a:buBlip>
              <a:tabLst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4080"/>
                </a:solidFill>
                <a:latin typeface="Calibri"/>
              </a:rPr>
              <a:t>Content…</a:t>
            </a: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  <a:p>
            <a:pPr lvl="1" marL="623880" indent="0">
              <a:spcBef>
                <a:spcPts val="2200"/>
              </a:spcBef>
              <a:buNone/>
              <a:tabLst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00408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mon Smith Stevens</cp:lastModifiedBy>
  <dcterms:modified xsi:type="dcterms:W3CDTF">2013-05-06T02:13:12Z</dcterms:modified>
  <cp:revision>16</cp:revision>
  <dc:subject/>
  <dc:title>PowerPoint Presentation</dc:title>
</cp:coreProperties>
</file>