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137919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137919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137919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137919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137919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137919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137919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137919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137919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137919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137919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137919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137919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137919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218960" y="838080"/>
            <a:ext cx="1379196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63560" y="241200"/>
            <a:ext cx="1294128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155240" y="2603520"/>
            <a:ext cx="680724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62856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764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0708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0840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851680" y="2603520"/>
            <a:ext cx="623556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1155240" y="2603520"/>
            <a:ext cx="680724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body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691200" indent="-527760">
              <a:spcBef>
                <a:spcPts val="3501"/>
              </a:spcBef>
              <a:buSzPct val="1038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  <a:p>
            <a:pPr lvl="1" marL="980640" indent="-528120">
              <a:spcBef>
                <a:spcPts val="3501"/>
              </a:spcBef>
              <a:buSzPct val="1038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  <a:p>
            <a:pPr lvl="2" marL="1269720" indent="-528120">
              <a:spcBef>
                <a:spcPts val="3501"/>
              </a:spcBef>
              <a:buSzPct val="10381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  <a:p>
            <a:pPr lvl="3" marL="1571400" indent="-528120">
              <a:spcBef>
                <a:spcPts val="3501"/>
              </a:spcBef>
              <a:buSzPct val="10381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  <a:p>
            <a:pPr lvl="4" marL="1860480" indent="-528120">
              <a:spcBef>
                <a:spcPts val="3501"/>
              </a:spcBef>
              <a:buSzPct val="10381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  <a:p>
            <a:pPr lvl="5" marL="1860480" indent="-528120">
              <a:spcBef>
                <a:spcPts val="3501"/>
              </a:spcBef>
              <a:buSzPct val="10381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  <a:p>
            <a:pPr lvl="6" marL="1860480" indent="-528120">
              <a:spcBef>
                <a:spcPts val="3501"/>
              </a:spcBef>
              <a:buSzPct val="10381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080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19520" y="3352680"/>
            <a:ext cx="1125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080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5240" indent="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  <a:p>
            <a:pPr lvl="1" marL="990720" indent="-533520">
              <a:spcBef>
                <a:spcPts val="3501"/>
              </a:spcBef>
              <a:buSzPct val="10381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  <a:p>
            <a:pPr lvl="2" marL="1282680" indent="-533520">
              <a:spcBef>
                <a:spcPts val="3501"/>
              </a:spcBef>
              <a:buSzPct val="10381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  <a:p>
            <a:pPr lvl="3" marL="1587600" indent="-533520">
              <a:spcBef>
                <a:spcPts val="3501"/>
              </a:spcBef>
              <a:buSzPct val="10381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  <a:p>
            <a:pPr lvl="4" marL="1879560" indent="-533520">
              <a:spcBef>
                <a:spcPts val="3501"/>
              </a:spcBef>
              <a:buSzPct val="103817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  <a:p>
            <a:pPr lvl="5" marL="1879560" indent="-533520">
              <a:spcBef>
                <a:spcPts val="700"/>
              </a:spcBef>
              <a:buSzPct val="10381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  <a:p>
            <a:pPr lvl="6" marL="1879560" indent="-533520">
              <a:spcBef>
                <a:spcPts val="700"/>
              </a:spcBef>
              <a:buSzPct val="10381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5600" y="2781000"/>
            <a:ext cx="139320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1155600" y="1180800"/>
            <a:ext cx="13932000" cy="676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614520" indent="-46908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7156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2860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39680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5600" y="6908760"/>
            <a:ext cx="139320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5600" y="6908760"/>
            <a:ext cx="139320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5600" y="1434600"/>
            <a:ext cx="83692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155600" y="4597560"/>
            <a:ext cx="836928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5600" y="1434600"/>
            <a:ext cx="83692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155600" y="4597560"/>
            <a:ext cx="836928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19520" y="3352680"/>
            <a:ext cx="1125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080"/>
                </a:solidFill>
                <a:latin typeface="Calibri"/>
              </a:rPr>
              <a:t>Presentation title…</a:t>
            </a: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2819160" y="4785840"/>
            <a:ext cx="11201400" cy="112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marL="16524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Calibri"/>
              </a:rPr>
              <a:t>Subhead …</a:t>
            </a: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13791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080"/>
                </a:solidFill>
                <a:latin typeface="Calibri"/>
              </a:rPr>
              <a:t>Subject title…</a:t>
            </a:r>
            <a:endParaRPr b="0" lang="en-US" sz="60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98400" indent="-533160">
              <a:spcBef>
                <a:spcPts val="3501"/>
              </a:spcBef>
              <a:buSzPct val="1038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Calibri"/>
              </a:rPr>
              <a:t>Content…</a:t>
            </a: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  <a:p>
            <a:pPr lvl="1" marL="990720" indent="0">
              <a:spcBef>
                <a:spcPts val="35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mon Smith Stevens</cp:lastModifiedBy>
  <dcterms:modified xsi:type="dcterms:W3CDTF">2013-05-06T02:13:28Z</dcterms:modified>
  <cp:revision>12</cp:revision>
  <dc:subject/>
  <dc:title>PowerPoint Presentation</dc:title>
</cp:coreProperties>
</file>